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-1440" y="0"/>
            <a:ext cx="6859440" cy="9144000"/>
          </a:xfrm>
          <a:custGeom>
            <a:avLst/>
            <a:gdLst>
              <a:gd name="textAreaLeft" fmla="*/ 360 w 6859440"/>
              <a:gd name="textAreaRight" fmla="*/ 6859080 w 685944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794">
                <a:moveTo>
                  <a:pt x="5" y="0"/>
                </a:moveTo>
                <a:arcTo wR="5" hR="5" stAng="16200000" swAng="-5400000"/>
                <a:lnTo>
                  <a:pt x="0" y="28789"/>
                </a:lnTo>
                <a:arcTo wR="5" hR="5" stAng="10800000" swAng="-5400000"/>
                <a:lnTo>
                  <a:pt x="21595" y="2879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2960" y="435564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088640" y="798480"/>
            <a:ext cx="467532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896400" y="4695840"/>
            <a:ext cx="4937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E2B-7DB6-4A61-ADC5-6CC3DD4F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5CC-A311-4687-811D-48D27CE6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52B-5406-4E4C-8E6C-F3AC309D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C9D-8DDB-4D9E-AA0A-329F1A4F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108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022-86EE-461B-A292-CC4CE6B8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237-F24A-4242-907F-AEED4E71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ECE-85A4-4388-B3CC-6998C76C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80B-8DCF-4BDA-9CA3-DF608CEE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108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497-1CB8-41CD-9174-9261BE93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138-9FD4-47C0-B82A-00FBE8EB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DD0-975A-4A1E-813C-260FDE3B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88B-9EA5-476D-AFAE-817CDF1A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23F31D-EF8D-4D35-AAC6-D20EAABB33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rcRect l="34447" t="51015" r="0" b="0"/>
          <a:stretch/>
        </p:blipFill>
        <p:spPr>
          <a:xfrm>
            <a:off x="0" y="6480000"/>
            <a:ext cx="9144000" cy="37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819680" y="6521400"/>
            <a:ext cx="4324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lar System Physics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83581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imultaneous Interplanetary Scintillation and Heliospheric Imager observations of transient solar wind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4"/>
          <p:cNvSpPr/>
          <p:nvPr/>
        </p:nvSpPr>
        <p:spPr>
          <a:xfrm>
            <a:off x="500040" y="3500280"/>
            <a:ext cx="81439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G. D. Dorrian</a:t>
            </a:r>
            <a:r>
              <a:rPr b="0" lang="en-GB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, A. R. Breen</a:t>
            </a:r>
            <a:r>
              <a:rPr b="0" lang="en-GB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, J. A. Davies</a:t>
            </a:r>
            <a:r>
              <a:rPr b="0" lang="en-GB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, A. P. Rouillard</a:t>
            </a:r>
            <a:r>
              <a:rPr b="0" lang="en-GB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, M. M. Bisi</a:t>
            </a:r>
            <a:r>
              <a:rPr b="0" lang="en-GB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&amp; R. A. Fallows</a:t>
            </a:r>
            <a:r>
              <a:rPr b="0" lang="en-GB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itle 4"/>
          <p:cNvSpPr/>
          <p:nvPr/>
        </p:nvSpPr>
        <p:spPr>
          <a:xfrm>
            <a:off x="571680" y="4643280"/>
            <a:ext cx="8358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7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Solar System Physics, Aberystwyth University, UK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7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7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Space Science &amp; Technology Dept., Rutherford Appleton Laboratory, U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7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School of Physics and Astronomy, University of Southampton, UK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7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Centre for Astrophysics and Space Sciences, University of California, San Diego,     CA, USA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4910040"/>
            <a:ext cx="1884240" cy="194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680080" y="2179800"/>
            <a:ext cx="3243240" cy="110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5672160" y="3402000"/>
            <a:ext cx="3246480" cy="10605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4019400" y="2249640"/>
            <a:ext cx="1254240" cy="1253880"/>
            <a:chOff x="4019400" y="2249640"/>
            <a:chExt cx="1254240" cy="1253880"/>
          </a:xfrm>
        </p:grpSpPr>
        <p:pic>
          <p:nvPicPr>
            <p:cNvPr id="94" name="Picture 5" descr=""/>
            <p:cNvPicPr/>
            <p:nvPr/>
          </p:nvPicPr>
          <p:blipFill>
            <a:blip r:embed="rId4"/>
            <a:stretch/>
          </p:blipFill>
          <p:spPr>
            <a:xfrm>
              <a:off x="4019400" y="2249640"/>
              <a:ext cx="125424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"/>
            <p:cNvPicPr/>
            <p:nvPr/>
          </p:nvPicPr>
          <p:blipFill>
            <a:blip r:embed="rId5"/>
            <a:stretch/>
          </p:blipFill>
          <p:spPr>
            <a:xfrm>
              <a:off x="4395960" y="2265120"/>
              <a:ext cx="35784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7" descr=""/>
            <p:cNvPicPr/>
            <p:nvPr/>
          </p:nvPicPr>
          <p:blipFill>
            <a:blip r:embed="rId6"/>
            <a:stretch/>
          </p:blipFill>
          <p:spPr>
            <a:xfrm>
              <a:off x="4098240" y="2630520"/>
              <a:ext cx="343800" cy="3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Line 8"/>
          <p:cNvSpPr/>
          <p:nvPr/>
        </p:nvSpPr>
        <p:spPr>
          <a:xfrm flipH="1" flipV="1">
            <a:off x="-1440" y="2423880"/>
            <a:ext cx="4572000" cy="4680"/>
          </a:xfrm>
          <a:prstGeom prst="line">
            <a:avLst/>
          </a:prstGeom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36720" bIns="-36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208080" y="2944800"/>
            <a:ext cx="1440" cy="31082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733320" y="2943000"/>
            <a:ext cx="2643120" cy="34081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523800" y="2944800"/>
            <a:ext cx="1257480" cy="32227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4371840" y="2781360"/>
            <a:ext cx="1309680" cy="620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4371840" y="2798640"/>
            <a:ext cx="1300320" cy="1646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V="1">
            <a:off x="4673520" y="2203560"/>
            <a:ext cx="1020960" cy="1713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4673520" y="2373480"/>
            <a:ext cx="1013040" cy="8823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30320" y="1357200"/>
            <a:ext cx="3587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87000"/>
              </a:lnSpc>
              <a:spcBef>
                <a:spcPts val="862"/>
              </a:spcBef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 of sight to radio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1603080" y="2081160"/>
            <a:ext cx="122040" cy="2923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 flipH="1">
            <a:off x="1584000" y="2071800"/>
            <a:ext cx="220680" cy="6588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3451320" y="1227240"/>
            <a:ext cx="582120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87000"/>
              </a:lnSpc>
              <a:spcBef>
                <a:spcPts val="862"/>
              </a:spcBef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cintillation arises due to turbulent-scale density variations in the Solar Wind inducing variable refractive inde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7812000" y="3402000"/>
            <a:ext cx="1800" cy="1352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7891560" y="2239920"/>
            <a:ext cx="1440" cy="2497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7554960" y="4613400"/>
            <a:ext cx="233280" cy="14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9960" bIns="-39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 flipH="1">
            <a:off x="7905240" y="4621320"/>
            <a:ext cx="220680" cy="4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6720" bIns="-36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7446960" y="4737240"/>
            <a:ext cx="7840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Time La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 flipH="1" flipV="1">
            <a:off x="-1440" y="2769840"/>
            <a:ext cx="4238640" cy="4680"/>
          </a:xfrm>
          <a:prstGeom prst="line">
            <a:avLst/>
          </a:prstGeom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36720" bIns="-36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938240" y="5049720"/>
            <a:ext cx="70297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ultaneous measurements by two suitable antennas such as those of the European Incoherent Scatter (EISCAT) radar show similar patterns of scintillatio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-lag for maximum cross-correlation gives estimate of solar wind outflow spe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8720" y="571680"/>
            <a:ext cx="8228160" cy="714240"/>
          </a:xfrm>
          <a:prstGeom prst="rect">
            <a:avLst/>
          </a:prstGeom>
          <a:solidFill>
            <a:srgbClr val="d9d9d9">
              <a:alpha val="11000"/>
            </a:srgbClr>
          </a:solidFill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Overview of 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14200" y="428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00"/>
                </a:solidFill>
                <a:latin typeface="Arial"/>
              </a:rPr>
              <a:t>Example of IPS cross correlation resul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14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Transient signatures in IP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71280" y="1332000"/>
            <a:ext cx="90014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ificant variation in the intensity of scintillation on time scales of 10s of minutes to 10s of hours –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ructures of high density variation crossing the rayp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ificant variation in the form of the cross correlation function and its spectra at receiver sites –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ifference of CME’s velocity and density compared with background solar w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learly defined anti-correlation in the cross correlation profile at or near the zero time lag –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sults from the rotation of the interplanetary magnetic field in the locality of the CM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correlation peaks and/or broadening of visible peaks of cross correlation –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dicates multiple solar wind streams of different velocities in the raypat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ificant off radial flow of solar wind indicated by the peak of cross correlation occurring when the tangential baseline component is not at minimum –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lows are deflected azimuthally by compression reg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00040" y="1357200"/>
          <a:ext cx="8215200" cy="4786560"/>
        </p:xfrm>
        <a:graphic>
          <a:graphicData uri="http://schemas.openxmlformats.org/drawingml/2006/table">
            <a:tbl>
              <a:tblPr/>
              <a:tblGrid>
                <a:gridCol w="2738520"/>
                <a:gridCol w="3182760"/>
                <a:gridCol w="229392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April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.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ay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:30 – 15:30 U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:30 – 14:00 U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CAT anten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runa, Sodankylä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runa, Sodankylä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dio Sour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0318+1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0431+2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e of sky distance from Sun to sour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.4 Solar Rad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2 Solar Rad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iographic Latitude of sour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.5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.1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 Summ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R detected with embedded transient (CME?) structure. CIR detected concurrently with HI-1A observations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E detected concurrently with HI-1A observatio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Observations 25</a:t>
            </a:r>
            <a:r>
              <a:rPr b="0" lang="en-GB" sz="4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. April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Observations 16</a:t>
            </a:r>
            <a:r>
              <a:rPr b="0" lang="en-GB" sz="4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. May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Gaz\Desktop\Phd folder\chapter 4\cme stuff\GRL2008paperfiles\figure2.png"/>
          <p:cNvPicPr/>
          <p:nvPr/>
        </p:nvPicPr>
        <p:blipFill>
          <a:blip r:embed="rId1"/>
          <a:stretch/>
        </p:blipFill>
        <p:spPr>
          <a:xfrm>
            <a:off x="4000680" y="1285920"/>
            <a:ext cx="5143320" cy="514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Gaz\Desktop\Phd folder\chapter 4\cme stuff\GRL2008paperfiles\figure3.png"/>
          <p:cNvPicPr/>
          <p:nvPr/>
        </p:nvPicPr>
        <p:blipFill>
          <a:blip r:embed="rId2"/>
          <a:stretch/>
        </p:blipFill>
        <p:spPr>
          <a:xfrm>
            <a:off x="571680" y="1714680"/>
            <a:ext cx="3143160" cy="4354200"/>
          </a:xfrm>
          <a:prstGeom prst="rect">
            <a:avLst/>
          </a:prstGeom>
          <a:ln w="0">
            <a:noFill/>
          </a:ln>
        </p:spPr>
      </p:pic>
      <p:cxnSp>
        <p:nvCxnSpPr>
          <p:cNvPr id="127" name="Straight Arrow Connector 5"/>
          <p:cNvCxnSpPr/>
          <p:nvPr/>
        </p:nvCxnSpPr>
        <p:spPr>
          <a:xfrm>
            <a:off x="2928960" y="2999880"/>
            <a:ext cx="2358000" cy="11437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" name="Straight Arrow Connector 6"/>
          <p:cNvCxnSpPr/>
          <p:nvPr/>
        </p:nvCxnSpPr>
        <p:spPr>
          <a:xfrm flipV="1">
            <a:off x="3143160" y="4642560"/>
            <a:ext cx="3501360" cy="35820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" name="TextBox 11"/>
          <p:cNvSpPr/>
          <p:nvPr/>
        </p:nvSpPr>
        <p:spPr>
          <a:xfrm>
            <a:off x="214200" y="5929200"/>
            <a:ext cx="38577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orrian et al., 2008, Geophysical Research Lett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Observations 16</a:t>
            </a:r>
            <a:r>
              <a:rPr b="0" lang="en-GB" sz="4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. May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Gaz\Desktop\Phd folder\chapter 4\cme stuff\GRL2008paperfiles\figure4.jpg"/>
          <p:cNvPicPr/>
          <p:nvPr/>
        </p:nvPicPr>
        <p:blipFill>
          <a:blip r:embed="rId1"/>
          <a:stretch/>
        </p:blipFill>
        <p:spPr>
          <a:xfrm>
            <a:off x="3659040" y="1571760"/>
            <a:ext cx="5484960" cy="4572000"/>
          </a:xfrm>
          <a:prstGeom prst="rect">
            <a:avLst/>
          </a:prstGeom>
          <a:ln w="0">
            <a:noFill/>
          </a:ln>
        </p:spPr>
      </p:pic>
      <p:pic>
        <p:nvPicPr>
          <p:cNvPr id="132" name="20070516_hi1a.mpg" descr=""/>
          <p:cNvPicPr/>
          <p:nvPr/>
        </p:nvPicPr>
        <p:blipFill>
          <a:blip r:embed="rId2"/>
          <a:stretch/>
        </p:blipFill>
        <p:spPr>
          <a:xfrm>
            <a:off x="71280" y="207180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3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z</dc:creator>
  <dc:description/>
  <dc:language>en-US</dc:language>
  <cp:lastModifiedBy>Gaz</cp:lastModifiedBy>
  <dcterms:modified xsi:type="dcterms:W3CDTF">2009-01-29T17:12:48Z</dcterms:modified>
  <cp:revision>12</cp:revision>
  <dc:subject/>
  <dc:title>Simultaneous Interplanetary Scintillation and Heliospheric Imager observations of transient solar wind features</dc:title>
</cp:coreProperties>
</file>