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20520" y="742680"/>
            <a:ext cx="4948200" cy="37098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2800" spc="-1" strike="noStrike">
                <a:solidFill>
                  <a:srgbClr val="004d75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9320" y="4705200"/>
            <a:ext cx="543096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3847680" y="940716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714E5-6B49-41D2-B93F-BF3DA64AC9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User:David.Monniaux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3848040" y="940752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E7578-E0A5-4DC6-864E-021B225C342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05200"/>
            <a:ext cx="543096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's Scientific Visualization St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8040" y="940752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3512F-69A0-4E1D-A6B9-BF4F57FB519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05200"/>
            <a:ext cx="543096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avid Monni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8040" y="940752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7A44C-9FC2-4726-B1FC-4E41F4BADE5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0124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2684880"/>
            <a:ext cx="830124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4280" y="144756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268488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4280" y="268488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7264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080" y="1447560"/>
            <a:ext cx="267264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7264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2684880"/>
            <a:ext cx="267264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080" y="2684880"/>
            <a:ext cx="267264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4000" y="2684880"/>
            <a:ext cx="267264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01240" cy="23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0124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507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4280" y="1447560"/>
            <a:ext cx="40507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3012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4280" y="1447560"/>
            <a:ext cx="40507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268488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507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4280" y="144756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4280" y="268488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4280" y="1447560"/>
            <a:ext cx="405072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2684880"/>
            <a:ext cx="8301240" cy="112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solidFill>
            <a:srgbClr val="004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6410160" y="324000"/>
            <a:ext cx="2435400" cy="56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01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4d7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4d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0124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4d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  <a:p>
            <a:pPr lvl="1" marL="260640" indent="-26064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4d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  <a:p>
            <a:pPr lvl="2" marL="260640" indent="-26064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4d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  <a:p>
            <a:pPr lvl="3" marL="260640" indent="-26064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4d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  <a:p>
            <a:pPr lvl="4" marL="260640" indent="-26064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4d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  <a:p>
            <a:pPr lvl="5" marL="260640" indent="-26064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4d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  <a:p>
            <a:pPr lvl="6" marL="260640" indent="-260640">
              <a:lnSpc>
                <a:spcPct val="11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4d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4d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800px-EISCAT_Svalbard_Radar.jpg"/>
          <p:cNvPicPr/>
          <p:nvPr/>
        </p:nvPicPr>
        <p:blipFill>
          <a:blip r:embed="rId1"/>
          <a:stretch/>
        </p:blipFill>
        <p:spPr>
          <a:xfrm>
            <a:off x="380880" y="1143000"/>
            <a:ext cx="8382240" cy="5573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istical modeling of the coupled F-region ionosphere thermosphere at high latitude during polar darknes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57200" y="5722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orrian et al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2019, Journal of Geophysical Research: Space Phys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781680" y="6400800"/>
            <a:ext cx="2133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Image: Tom Grydeland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52280" y="10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matology -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" name="Picture 6" descr="Screen Shot 2019-02-27 at 10.36.51.png"/>
          <p:cNvPicPr/>
          <p:nvPr/>
        </p:nvPicPr>
        <p:blipFill>
          <a:blip r:embed="rId1"/>
          <a:stretch/>
        </p:blipFill>
        <p:spPr>
          <a:xfrm>
            <a:off x="257040" y="1600200"/>
            <a:ext cx="8658360" cy="1130400"/>
          </a:xfrm>
          <a:prstGeom prst="rect">
            <a:avLst/>
          </a:prstGeom>
          <a:ln w="0">
            <a:noFill/>
          </a:ln>
        </p:spPr>
      </p:pic>
      <p:sp>
        <p:nvSpPr>
          <p:cNvPr id="75" name="Frame 9"/>
          <p:cNvSpPr/>
          <p:nvPr/>
        </p:nvSpPr>
        <p:spPr>
          <a:xfrm>
            <a:off x="1219320" y="1523880"/>
            <a:ext cx="2971800" cy="1295640"/>
          </a:xfrm>
          <a:custGeom>
            <a:avLst/>
            <a:gdLst/>
            <a:ahLst/>
            <a:rect l="l" t="t" r="r" b="b"/>
            <a:pathLst>
              <a:path w="2971800" h="1295400">
                <a:moveTo>
                  <a:pt x="0" y="0"/>
                </a:moveTo>
                <a:lnTo>
                  <a:pt x="2971800" y="0"/>
                </a:lnTo>
                <a:lnTo>
                  <a:pt x="2971800" y="1295400"/>
                </a:lnTo>
                <a:lnTo>
                  <a:pt x="0" y="1295400"/>
                </a:lnTo>
                <a:lnTo>
                  <a:pt x="0" y="0"/>
                </a:lnTo>
                <a:close/>
                <a:moveTo>
                  <a:pt x="73086" y="73086"/>
                </a:moveTo>
                <a:lnTo>
                  <a:pt x="73086" y="1222314"/>
                </a:lnTo>
                <a:lnTo>
                  <a:pt x="2898714" y="1222314"/>
                </a:lnTo>
                <a:lnTo>
                  <a:pt x="2898714" y="73086"/>
                </a:lnTo>
                <a:lnTo>
                  <a:pt x="73086" y="7308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" name="Picture 11" descr="Figure1a.png"/>
          <p:cNvPicPr/>
          <p:nvPr/>
        </p:nvPicPr>
        <p:blipFill>
          <a:blip r:embed="rId2"/>
          <a:stretch/>
        </p:blipFill>
        <p:spPr>
          <a:xfrm>
            <a:off x="1295280" y="2895480"/>
            <a:ext cx="6583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52280" y="10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matology – Temperatures, 2-hr averag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" name="Picture 3" descr="Figure1c.png"/>
          <p:cNvPicPr/>
          <p:nvPr/>
        </p:nvPicPr>
        <p:blipFill>
          <a:blip r:embed="rId1"/>
          <a:stretch/>
        </p:blipFill>
        <p:spPr>
          <a:xfrm>
            <a:off x="1676520" y="1752480"/>
            <a:ext cx="530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52280" y="107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matology – F-region plasma struc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" name="Picture 6" descr="Screen Shot 2019-02-27 at 10.36.51.png"/>
          <p:cNvPicPr/>
          <p:nvPr/>
        </p:nvPicPr>
        <p:blipFill>
          <a:blip r:embed="rId1"/>
          <a:stretch/>
        </p:blipFill>
        <p:spPr>
          <a:xfrm>
            <a:off x="257040" y="1600200"/>
            <a:ext cx="8658360" cy="1130400"/>
          </a:xfrm>
          <a:prstGeom prst="rect">
            <a:avLst/>
          </a:prstGeom>
          <a:ln w="0">
            <a:noFill/>
          </a:ln>
        </p:spPr>
      </p:pic>
      <p:sp>
        <p:nvSpPr>
          <p:cNvPr id="81" name="Frame 9"/>
          <p:cNvSpPr/>
          <p:nvPr/>
        </p:nvSpPr>
        <p:spPr>
          <a:xfrm>
            <a:off x="4038480" y="1523880"/>
            <a:ext cx="3124440" cy="1295640"/>
          </a:xfrm>
          <a:custGeom>
            <a:avLst/>
            <a:gdLst/>
            <a:ahLst/>
            <a:rect l="l" t="t" r="r" b="b"/>
            <a:pathLst>
              <a:path w="3124200" h="1295400">
                <a:moveTo>
                  <a:pt x="0" y="0"/>
                </a:moveTo>
                <a:lnTo>
                  <a:pt x="3124200" y="0"/>
                </a:lnTo>
                <a:lnTo>
                  <a:pt x="3124200" y="1295400"/>
                </a:lnTo>
                <a:lnTo>
                  <a:pt x="0" y="1295400"/>
                </a:lnTo>
                <a:lnTo>
                  <a:pt x="0" y="0"/>
                </a:lnTo>
                <a:close/>
                <a:moveTo>
                  <a:pt x="73086" y="73086"/>
                </a:moveTo>
                <a:lnTo>
                  <a:pt x="73086" y="1222314"/>
                </a:lnTo>
                <a:lnTo>
                  <a:pt x="3051114" y="1222314"/>
                </a:lnTo>
                <a:lnTo>
                  <a:pt x="3051114" y="73086"/>
                </a:lnTo>
                <a:lnTo>
                  <a:pt x="73086" y="7308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3" descr="Figure1b.png"/>
          <p:cNvPicPr/>
          <p:nvPr/>
        </p:nvPicPr>
        <p:blipFill>
          <a:blip r:embed="rId2"/>
          <a:stretch/>
        </p:blipFill>
        <p:spPr>
          <a:xfrm>
            <a:off x="2362320" y="2819520"/>
            <a:ext cx="46479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52280" y="10666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variate modeling – example: F-peak electron dens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Picture 4" descr="Table3.png"/>
          <p:cNvPicPr/>
          <p:nvPr/>
        </p:nvPicPr>
        <p:blipFill>
          <a:blip r:embed="rId1"/>
          <a:stretch/>
        </p:blipFill>
        <p:spPr>
          <a:xfrm>
            <a:off x="139680" y="2286000"/>
            <a:ext cx="8864640" cy="2425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80880" y="47242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inant terms are F10.7cm solar flux (transport processes), HmE, and airglow intensity I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ason also important in all sectors, except Daw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52280" y="10666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variate modeling – example: F-peak structuring ratio (scintill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Picture 4" descr="Table4.png"/>
          <p:cNvPicPr/>
          <p:nvPr/>
        </p:nvPicPr>
        <p:blipFill>
          <a:blip r:embed="rId1"/>
          <a:stretch/>
        </p:blipFill>
        <p:spPr>
          <a:xfrm>
            <a:off x="139680" y="2289240"/>
            <a:ext cx="8864640" cy="22795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152280" y="44956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ason clearly is the most important term - all parameter estimates negative indicating strongest plasma density structuring occurs close to midwin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y also be related to geometry of Earth’s orbit (perihelion occurs in Januar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ve coefficients in E-region electron density indicate common cause with F-structuring – likely to be precip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52280" y="12286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variate modeling – example: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-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3" descr="Table7.png"/>
          <p:cNvPicPr/>
          <p:nvPr/>
        </p:nvPicPr>
        <p:blipFill>
          <a:blip r:embed="rId1"/>
          <a:stretch/>
        </p:blipFill>
        <p:spPr>
          <a:xfrm>
            <a:off x="139680" y="1981080"/>
            <a:ext cx="8864640" cy="3303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76320" y="531504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lly less well constrained than for plasma only mode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irglow intensity most influential – strongest in midnight sec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on temperature related variables such as Kp, Polar Cap Index (PCI) rank a little higher than neutral temperature related variabl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52280" y="1305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variate mode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066680" y="2193840"/>
            <a:ext cx="70106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monstrates the combinations of variables which best explain variability in the ionosphere-thermosphe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s same dependent variables as for the univariate modelling and climat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me data sets as for univariate modell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152280" y="1305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variate modeling – distribution ty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3" descr="fstr1.png"/>
          <p:cNvPicPr/>
          <p:nvPr/>
        </p:nvPicPr>
        <p:blipFill>
          <a:blip r:embed="rId1"/>
          <a:stretch/>
        </p:blipFill>
        <p:spPr>
          <a:xfrm>
            <a:off x="212760" y="2819520"/>
            <a:ext cx="4282920" cy="304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fpeakne.png"/>
          <p:cNvPicPr/>
          <p:nvPr/>
        </p:nvPicPr>
        <p:blipFill>
          <a:blip r:embed="rId2"/>
          <a:stretch/>
        </p:blipFill>
        <p:spPr>
          <a:xfrm>
            <a:off x="4556160" y="2819520"/>
            <a:ext cx="42829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52280" y="1305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variate modeling – “top down” meth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447920" y="5410080"/>
                <a:ext cx="5771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ri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789120" y="2133720"/>
                <a:ext cx="7630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ri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TextBox 6"/>
          <p:cNvSpPr/>
          <p:nvPr/>
        </p:nvSpPr>
        <p:spPr>
          <a:xfrm>
            <a:off x="1066680" y="297180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iminate least statistically significant terms in co-linear pairs (with correlation of =&gt; 0.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iminate least statistically significant term (P-value &gt; 0.05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peat until only terms with P-value &lt;=0.05 remai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52280" y="10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ness of f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1066680" y="1219320"/>
            <a:ext cx="6629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an squared error tends to be penalized by extreme values. MSE thus provides and indication of how well the model is capturing more extreme ev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lative mean error indicates model bias (mean of residuals / mean of sampl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dian Symmetric Accuracy (MSA) yields a percentage error and is useable across numerous variables with different magnitud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2133720" y="5105520"/>
                <a:ext cx="47401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og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Terrestrial_Atmos_ITM_Processes.jpg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0" y="65502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edit: NASA's Scientific Visualization Studi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52280" y="10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variate modeling &amp; skill score analy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6019920" y="5334120"/>
                <a:ext cx="268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cor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ode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l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te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3886200" y="1676520"/>
                <a:ext cx="4419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´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TextBox 7"/>
          <p:cNvSpPr/>
          <p:nvPr/>
        </p:nvSpPr>
        <p:spPr>
          <a:xfrm>
            <a:off x="304920" y="1752480"/>
            <a:ext cx="3733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: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Verdana"/>
              </a:rPr>
              <a:t>st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awn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5" descr="f_str_1_dawn.jpeg"/>
          <p:cNvPicPr/>
          <p:nvPr/>
        </p:nvPicPr>
        <p:blipFill>
          <a:blip r:embed="rId1"/>
          <a:stretch/>
        </p:blipFill>
        <p:spPr>
          <a:xfrm>
            <a:off x="304920" y="2755800"/>
            <a:ext cx="5481360" cy="3873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2287440" y="6168960"/>
            <a:ext cx="1598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ar Mod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561240" y="4304880"/>
            <a:ext cx="218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-layer 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295280" y="3581280"/>
            <a:ext cx="1143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 = 0.78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 &lt; 0.001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5943600" y="2895480"/>
            <a:ext cx="2666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st data correlates well with linear mod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SA Skill Score 0.16, MSE Skill Score 0.6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ffers better estimations than climatology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406840"/>
          </a:xfrm>
          <a:prstGeom prst="rect">
            <a:avLst/>
          </a:prstGeom>
          <a:ln w="0">
            <a:noFill/>
          </a:ln>
        </p:spPr>
      </p:pic>
      <p:sp>
        <p:nvSpPr>
          <p:cNvPr id="114" name="Frame 6"/>
          <p:cNvSpPr/>
          <p:nvPr/>
        </p:nvSpPr>
        <p:spPr>
          <a:xfrm>
            <a:off x="609480" y="3581280"/>
            <a:ext cx="7848720" cy="533520"/>
          </a:xfrm>
          <a:custGeom>
            <a:avLst/>
            <a:gdLst/>
            <a:ahLst/>
            <a:rect l="l" t="t" r="r" b="b"/>
            <a:pathLst>
              <a:path w="7848600" h="533400">
                <a:moveTo>
                  <a:pt x="0" y="0"/>
                </a:moveTo>
                <a:lnTo>
                  <a:pt x="7848600" y="0"/>
                </a:lnTo>
                <a:lnTo>
                  <a:pt x="7848600" y="533400"/>
                </a:lnTo>
                <a:lnTo>
                  <a:pt x="0" y="533400"/>
                </a:lnTo>
                <a:lnTo>
                  <a:pt x="0" y="0"/>
                </a:lnTo>
                <a:close/>
                <a:moveTo>
                  <a:pt x="66675" y="66675"/>
                </a:moveTo>
                <a:lnTo>
                  <a:pt x="66675" y="466725"/>
                </a:lnTo>
                <a:lnTo>
                  <a:pt x="7781925" y="466725"/>
                </a:lnTo>
                <a:lnTo>
                  <a:pt x="7781925" y="66675"/>
                </a:lnTo>
                <a:lnTo>
                  <a:pt x="66675" y="666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304920" y="2448000"/>
            <a:ext cx="8305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st methodology against known extreme events (e.g. Halloween storm 200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te more directly to ionospheric scintillation (using F-region structurin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end to lower latitu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04920" y="11430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ture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04920" y="1981080"/>
            <a:ext cx="83055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rrian, G. D., Wood, A. G., Ronksley, A., Aruliah, A., &amp; Shahtahmassebi, G. (2019). Statistical modeling of the coupled F‐region ionosphere‐thermosphere at high latitude during polar darkness. Journal of Geophysical Research: Space Physics, 124. https://doi.org/ 10.1029/2018JA026171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. Dungey, J. (1961). Interplanetary Magnetic Field and the Auroral Zones. Physical Review Letters - PHYS REV LETT. 6. 47-48. 10.1103/PhysRevLett.6.47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. Kivelson, Margaret &amp; T. Russell, Christopher. (1995). Introduction to Space Physics. Introduction to Space Physics, Edited by Margaret G. Kivelson and Christopher T. Russell, pp. 586. ISBN 0521451043. Cambridge, UK: Cambridge University Press, April 1995.. -1. 10.1063/1.2807586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04920" y="11430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erenc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ungey_cycle.png"/>
          <p:cNvPicPr/>
          <p:nvPr/>
        </p:nvPicPr>
        <p:blipFill>
          <a:blip r:embed="rId1"/>
          <a:stretch/>
        </p:blipFill>
        <p:spPr>
          <a:xfrm>
            <a:off x="457200" y="704880"/>
            <a:ext cx="7924680" cy="5924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666880" y="76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ungey Cycle 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0" y="61722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ge credit: Kivelson and Russell (1995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ngey (196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ME1.mpg" descr="/Users/gdd/Desktop/talk/CME1.mpg"/>
          <p:cNvPicPr/>
          <p:nvPr/>
        </p:nvPicPr>
        <p:blipFill>
          <a:blip r:embed="rId1"/>
          <a:stretch/>
        </p:blipFill>
        <p:spPr>
          <a:xfrm>
            <a:off x="609480" y="685800"/>
            <a:ext cx="7923240" cy="54039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819520" y="76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ungey Cycle i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9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rrella_wiki.jpg"/>
          <p:cNvPicPr/>
          <p:nvPr/>
        </p:nvPicPr>
        <p:blipFill>
          <a:blip r:embed="rId1"/>
          <a:stretch/>
        </p:blipFill>
        <p:spPr>
          <a:xfrm>
            <a:off x="20520" y="0"/>
            <a:ext cx="91029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0" y="655020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edit: David Monniau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380880" y="1600200"/>
            <a:ext cx="83059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rpose of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To demonstrate that linear modeling is a better predictor of coupled ionosphere-thermosphere variability than climatolo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To identify which variables are singularly most influential on the vari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To identify which combination of variables afford the best predictability of ionosphere-thermosphere vari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04920" y="1044720"/>
            <a:ext cx="85341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R: 2-hourly averaged bins advancing by 2-hou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Electron density and temperatures in E- and F-reg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Ion temperatures in E- and F-reg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Plasma structuring ratio calculated from these dat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PI: Co-located with ESR, measuring red-line emission from airglow at 630.2 n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Observations must be made in darkness and centered at 240 km altitu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Vertical, meridional, and zonal wind velocity ±10 ms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MS PGothic"/>
              </a:rPr>
              <a:t>-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Neutral thermosphere temperatures ±90 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ophysical proxies including Kp-index, season, F10.7 solar flux, Interplanetary Magnetic Field strength/ori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roximately 3200 hours of observations in total, across 2 solar cycles, with data divided into “training” and “testing” subse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52280" y="1066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pen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2651040" y="1219320"/>
            <a:ext cx="6340680" cy="5410080"/>
          </a:xfrm>
          <a:prstGeom prst="rect">
            <a:avLst/>
          </a:prstGeom>
          <a:ln w="0">
            <a:noFill/>
          </a:ln>
        </p:spPr>
      </p:pic>
      <p:sp>
        <p:nvSpPr>
          <p:cNvPr id="67" name="Frame 5"/>
          <p:cNvSpPr/>
          <p:nvPr/>
        </p:nvSpPr>
        <p:spPr>
          <a:xfrm>
            <a:off x="2666880" y="1676520"/>
            <a:ext cx="381240" cy="1752480"/>
          </a:xfrm>
          <a:custGeom>
            <a:avLst/>
            <a:gdLst/>
            <a:ahLst/>
            <a:rect l="l" t="t" r="r" b="b"/>
            <a:pathLst>
              <a:path w="381000" h="1752600">
                <a:moveTo>
                  <a:pt x="0" y="0"/>
                </a:moveTo>
                <a:lnTo>
                  <a:pt x="381000" y="0"/>
                </a:lnTo>
                <a:lnTo>
                  <a:pt x="381000" y="1752600"/>
                </a:lnTo>
                <a:lnTo>
                  <a:pt x="0" y="1752600"/>
                </a:lnTo>
                <a:lnTo>
                  <a:pt x="0" y="0"/>
                </a:lnTo>
                <a:close/>
                <a:moveTo>
                  <a:pt x="47625" y="47625"/>
                </a:moveTo>
                <a:lnTo>
                  <a:pt x="47625" y="1704975"/>
                </a:lnTo>
                <a:lnTo>
                  <a:pt x="333375" y="1704975"/>
                </a:lnTo>
                <a:lnTo>
                  <a:pt x="333375" y="47625"/>
                </a:lnTo>
                <a:lnTo>
                  <a:pt x="47625" y="476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Frame 6"/>
          <p:cNvSpPr/>
          <p:nvPr/>
        </p:nvSpPr>
        <p:spPr>
          <a:xfrm>
            <a:off x="2590920" y="5486400"/>
            <a:ext cx="533160" cy="380880"/>
          </a:xfrm>
          <a:custGeom>
            <a:avLst/>
            <a:gdLst/>
            <a:ahLst/>
            <a:rect l="l" t="t" r="r" b="b"/>
            <a:pathLst>
              <a:path w="533400" h="381000">
                <a:moveTo>
                  <a:pt x="0" y="0"/>
                </a:moveTo>
                <a:lnTo>
                  <a:pt x="533400" y="0"/>
                </a:lnTo>
                <a:lnTo>
                  <a:pt x="533400" y="381000"/>
                </a:lnTo>
                <a:lnTo>
                  <a:pt x="0" y="381000"/>
                </a:lnTo>
                <a:lnTo>
                  <a:pt x="0" y="0"/>
                </a:lnTo>
                <a:close/>
                <a:moveTo>
                  <a:pt x="47625" y="47625"/>
                </a:moveTo>
                <a:lnTo>
                  <a:pt x="47625" y="333375"/>
                </a:lnTo>
                <a:lnTo>
                  <a:pt x="485775" y="333375"/>
                </a:lnTo>
                <a:lnTo>
                  <a:pt x="485775" y="47625"/>
                </a:lnTo>
                <a:lnTo>
                  <a:pt x="47625" y="476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52280" y="2233440"/>
            <a:ext cx="2438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-region peak electron cou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-region plasma structure rat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on Temp. (Ti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utral Temp. (T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 - T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52280" y="10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ule hea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380880" y="5105520"/>
                <a:ext cx="8267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u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u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" name="TextBox 5"/>
          <p:cNvSpPr/>
          <p:nvPr/>
        </p:nvSpPr>
        <p:spPr>
          <a:xfrm>
            <a:off x="1066680" y="1752480"/>
            <a:ext cx="70106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er of thermal energy from ions to neutrals in the coupled ionosphere-thermosp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presents the end point of energy transfer from the Sun to Earth via the solar wind and interplanetary magnetic fiel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rongly dependent on solar activity and consequent space weather condi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7T14:19:12Z</dcterms:created>
  <dc:creator>DIR3SMITHG</dc:creator>
  <dc:description/>
  <dc:language>en-US</dc:language>
  <cp:lastModifiedBy>Gareth Dorrian (Department of Electronic Electrical and Systems Engineering)</cp:lastModifiedBy>
  <cp:lastPrinted>2013-03-04T09:02:44Z</cp:lastPrinted>
  <dcterms:modified xsi:type="dcterms:W3CDTF">2019-07-18T07:05:21Z</dcterms:modified>
  <cp:revision>426</cp:revision>
  <dc:subject/>
  <dc:title>Slide 1</dc:title>
</cp:coreProperties>
</file>